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D8D-0608-41AD-8D99-06BE4431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819-FF6E-4318-AB1B-2B101F3C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CB5-88E7-4E99-A693-6611B8F7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8F6-D3ED-4488-8389-A8F9BF7A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2818-CA99-4C75-8F83-4244B9B4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602B-37B1-4CBD-B548-94D1ACED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66B6-83B5-4D52-A21A-C6DE102E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085E-4DA8-4E70-8774-A72E0F10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B5C0-A48F-4CE2-B087-1ADF61AF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4C0A-9545-404B-ADCB-649518E5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323C-189C-4437-852E-8624B62D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A9F-45A4-425B-A8E8-FA8A6CAC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B334-5FE2-4FEA-9CF4-3766A7E0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39EA-445D-4F5A-BE83-E7ECE600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DEB1-ECA2-4095-84FE-C510F37C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3873-D383-4935-989D-0837BA63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69EF-3849-44EE-A466-ADAE916A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1A2-453F-4BCD-9B2F-B3EBCA95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216-C768-4123-AA9F-537307E3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FCB-AE1C-459D-BC46-6B311A04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251-489A-4A1B-986C-A789FF1F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BA0-3498-4F58-B61F-6755E7AF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D0F-3EAE-4FF9-9C3D-3CAABE14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495-2782-4CD6-B26D-29A387E7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E940-EF56-446A-BC9F-664E2E2F9FC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CE45-38F4-4D98-957C-70D2284C116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../Classroom%20Observation/Classroom%20Observation.avi" TargetMode="External"/><Relationship Id="rId2" Type="http://schemas.openxmlformats.org/officeDocument/2006/relationships/hyperlink" Target="file:///../Classroom%20Observation/Debrief%20&amp;%20Planned%20Learning.avi" TargetMode="External"/><Relationship Id="rId3" Type="http://schemas.openxmlformats.org/officeDocument/2006/relationships/hyperlink" Target="file:///../Classroom%20Observation/Pre-Conference.avi" TargetMode="External"/><Relationship Id="rId4" Type="http://schemas.openxmlformats.org/officeDocument/2006/relationships/hyperlink" Target="file:///../Classroom%20Observation/Team%20Coaching.avi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500" spc="-1" strike="noStrike">
                <a:solidFill>
                  <a:srgbClr val="336666"/>
                </a:solidFill>
                <a:latin typeface="Arial Black"/>
              </a:rPr>
              <a:t>T.O.T.A.L.</a:t>
            </a:r>
            <a:endParaRPr b="0" i="1" lang="en-US" sz="9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eachers Observing Teaching And…Learn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ackling the challenges and planning for 2008 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professional learning model is complex and requires considerable thought and ingenuity to take the idea and create an effective coaching mod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aching is not a stand-alone or a complete approach to P.D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ackling the challenges and planning for 2008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. What have been the major challenges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. How have you tackled them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. How are you planning for 2008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. How are you planning to implement individual coaching, team coaching, Lesson Study, Learning Walks…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ffective Professional Learn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0000"/>
                </a:solidFill>
                <a:latin typeface="Arial"/>
              </a:rPr>
              <a:t>Principle 5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– Effective Professional Learning must be evidenced based and data driven to guide improvement and measure impa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 isn't GOOD or BAD…..it’s what to teach next!!!!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do we/could we use student data in our work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chmoker says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There is a marked difference between vague, well intentioned improvement efforts and carefully targeted, goal orientated, short term efforts aimed explicitly at getting measurable and substantive results quickly”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tilising Student Data –within our coach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Analyse studen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Search for explanation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’s going on instructionally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gap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Develop an instructional foc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Identify 1 or 2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Assess student mastery using formative and summative assess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 Continue to analyse student data to drive instru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 Could include common assessment ta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tudent Work Samp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 schools talk about being “data driven” people think of AIM, test scores, etc. But student work  is a powerful example of student dat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ining student work is complex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aches should us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Protocol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o break down the barriers that prevent close and critical examination of the work samp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nsive examination of student work is critical in understanding what teachers think they’re teaching and what students are learn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easuring our work….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need to measure the quality and impact of the coaching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T more importantly we need to be able to make links between the coaching, teacher learning and student achievement !!!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do we do this ???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79640" y="33336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A BEGINNING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ltimate goal of any staff development effort is in the transfer of new learning to the teacher’s active repertoire” (Burke &amp; Balwin, 1999)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y T.O.T.A.L.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kilful artists, athletes and musicians never lose their need for coaching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kewise, to continually perfect their craft, teachers profit from coaching as wel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work effectively as a member of a team requires coaching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are the only profession that is expected to work as a team but practice our craft in iso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w educational innovations achieve their full impact without a coaching component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yce and Showers (1988) found that only when the component of coaching was added was the innovation internalized, valued and transferred to the classroom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privatization enhances the intellectual capacities of teachers, which, in turn,  produces greater intellectual achievements in studen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Impact of professional development &amp; training on job performance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55640" y="1809720"/>
          <a:ext cx="7696080" cy="4398840"/>
        </p:xfrm>
        <a:graphic>
          <a:graphicData uri="http://schemas.openxmlformats.org/drawingml/2006/table">
            <a:tbl>
              <a:tblPr/>
              <a:tblGrid>
                <a:gridCol w="2664000"/>
                <a:gridCol w="1873080"/>
                <a:gridCol w="1440000"/>
                <a:gridCol w="171900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components &amp; comb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l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y and demon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y &amp; demonstration, practice and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y &amp; demonstration, practice, feedback and coa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95360" y="6345360"/>
            <a:ext cx="825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: Training components, their combinations and impact on job performance (based on Joyce and Sowers, 1988 adapted by Wallace, M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Claxton, g. et al (1996). Liberating the learner, London: Routledge, p.2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“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ETTING TO THE GAME  ”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.O.T.A.L. is really aimed at pulling the walls down and “getting to the game”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i="1" lang="en-US" sz="3500" spc="-1" strike="noStrike">
                <a:solidFill>
                  <a:srgbClr val="ff0000"/>
                </a:solidFill>
                <a:latin typeface="Arial"/>
              </a:rPr>
              <a:t>Look and Listen to the Learning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                        through –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. Structured Classroom Observati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. Structured Walk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3. The Lesson Study mod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66"/>
                </a:solidFill>
                <a:latin typeface="Arial Black"/>
              </a:rPr>
              <a:t>The T.O.T.A.L. Journey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d Professional Leave or Leading School Fu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s also invested $$$  to buy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nt 8 days learning together (over 12 month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ched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ed each other coach &amp; given feedb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ator observes coaching and gives feedb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ch individuals and teams of teac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video as a tool to “Look and Listen to the Learning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part in “Structured Walks” through classroo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ly trialling “The Lesson Study”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c planning each term, involving coach, principal and facilita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Structured Classroom Observ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killed in facilitating “Teacher Learning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ed at constructing and posing questions to engage and transform thou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ful in enabling others to see how their practice really is, the impact it has and the ways it could be im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teachers explore their challenges and pursue their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ch individuals and teams of teac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 the STUDENT LEARNING to analyse the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at do T.O.T.A.L Coaches do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Elmore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– Bridging The Gap Between The Standards and Achievement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knowledge gap is not so much about knowing what good professional development looks like; it’s about knowing how to get it rooted in the institutional structure of school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“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ce, successful professional development is likely to occur in schools and classroom settings, rather than off-site, and to involve work with individual teachers or small groups around the observation of actual teaching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needed are, enlightened professional development practices that become part of the mainstream of school lif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7040" y="365040"/>
            <a:ext cx="81421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c planning each term, involving coa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al and facilit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 Snapshot…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Classroom Observ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Debrief &amp; Planned Learn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Pre-confer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Team Coach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T.O.T.A.L. Coaches – Who are they ?</a:t>
            </a:r>
            <a:r>
              <a:rPr b="0" lang="en-US" sz="25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ymple South P.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Robyn Gallagher and Sandra Luitj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 Cliffs East P.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onna Seipolt and Craig Wa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ymple Sec. Colleg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amian Hallinan and Gregor Al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ymple P.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Marie Therese O’Le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chols Point P.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Marie G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ffey Sec. Colleg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Heather Bi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ldura Senior Coll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Jenn Gervasonni and Heather Crawl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4360" y="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HE TOTAL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GENDA - Day 10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 and Wel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e-breaker 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3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essional Reading – “How to Develop a Coaching Ey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eachers look at teaching and learning, what do they actually se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TAL coach – “ What knowledge and skills do they have? How do we use them effectively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driven Coaching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s and Celeb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fessional Reading discuss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1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3100" spc="-1" strike="noStrike">
                <a:solidFill>
                  <a:srgbClr val="ff0000"/>
                </a:solidFill>
                <a:latin typeface="Arial"/>
              </a:rPr>
              <a:t>How to develop a coaching eye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. Look at the knowledge, skills and strategies in the article. List and compare the knowledge, skills and strategies we’ve learnt together in TOTA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. What about content knowledge? How does this sit within our approach 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 Coaching Eye…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Powerful Teaching and Learning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teachers see it and understand it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do we help teachers open their eyes and minds to effective teaching and learning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ing to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look, listen and understand the learning, takes time.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533160"/>
            <a:ext cx="74865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Teaching and Learning Coaches.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(Coaches of Pedagogy)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460836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uld be focussing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Workshop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Arial"/>
              </a:rPr>
              <a:t>A. Mini-Lesson – 2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Arial"/>
              </a:rPr>
              <a:t>B. Independent/Group Work 6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Arial"/>
              </a:rPr>
              <a:t>C. Reflection/Sharing – 2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P.o.L.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V.E.L.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Arial"/>
              </a:rPr>
              <a:t>-  Interdisciplinary Learn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Arial"/>
              </a:rPr>
              <a:t>- Physical and Personal and Social     Lear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sessment – For/As/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Rubri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Self assessment/peer assess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Teacher Feedba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Refle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Using data to drive instruction …etc et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ffective Approaches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Inqui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P.B.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Socratic Circl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Philosoph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Integrated Learning…..etc et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9:42:14Z</dcterms:created>
  <dc:creator>User</dc:creator>
  <dc:description/>
  <dc:language>en-US</dc:language>
  <cp:lastModifiedBy>Anne Robinson</cp:lastModifiedBy>
  <dcterms:modified xsi:type="dcterms:W3CDTF">2007-11-15T20:03:42Z</dcterms:modified>
  <cp:revision>48</cp:revision>
  <dc:subject/>
  <dc:title>T.O.T.A.L.</dc:title>
</cp:coreProperties>
</file>